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5111-168F-40CD-95C3-515AB775C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BB1C-8251-4DC9-A554-CFD584CD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9936-AD87-47ED-8D57-FDDF443CA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BD8D-5B09-4114-A19B-F4B3BBF4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6865-D9D2-4833-8E66-CDC10EC5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6448-6D79-4998-8309-7B7964F9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E2BC-7B47-4E1F-9CAF-374947B3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0F1C-41FD-40EE-98DD-43041128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C481-854C-4769-805D-3CF93813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9478-D982-45F2-B7DD-6E6B937B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C4B7-EBB3-4DA8-ADE6-95E461C3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A713-5CC7-4795-8206-40DC2C15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3FE0-3D70-4183-B3FC-08DF40D9B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997000" cy="3504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29000" y="192240"/>
            <a:ext cx="5181480" cy="42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uhaus 93"/>
              </a:rPr>
              <a:t>Lektion 4</a:t>
            </a:r>
            <a:r>
              <a:rPr b="1" lang="en-US" sz="2400" spc="-1" strike="noStrike">
                <a:solidFill>
                  <a:srgbClr val="cc3399"/>
                </a:solidFill>
                <a:latin typeface="Bauhaus 93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Bauhaus 9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1.  Who is this?  Write it dow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2.  Who is who?  Fill in the number in the pictu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3.  Write down the family relationships in your no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4a. Introduce these people following the exampl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4b. Now introduce other people:  Turbo, Milli, a student in the class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5.  Write the nouns with articles in the tabl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6.   Fill in the missing answer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7.  Fill in the dialogu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8.  What do you know about the Schüler family?  Write it dow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809880"/>
            <a:ext cx="8686800" cy="29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9a. What do the kids answe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9b. And what is your hobby?  Write it down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Ü10  Write the questions to Anna’s answ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1.  Which words from the list correspon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2.  Write the pairs of wor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3.  Which verbs from the list from Lektion 1-3 correspon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4.  Solve the puzzle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5.  This is what German animals sound like.  Find out which animals say 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48520" y="502920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Arial"/>
              </a:rPr>
              <a:t>*Ü = Übung, which means exercise, not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8:27:52Z</dcterms:created>
  <dc:creator>udsd</dc:creator>
  <dc:description/>
  <dc:language>en-US</dc:language>
  <cp:lastModifiedBy>Hart</cp:lastModifiedBy>
  <dcterms:modified xsi:type="dcterms:W3CDTF">2009-09-29T20:02:55Z</dcterms:modified>
  <cp:revision>8</cp:revision>
  <dc:subject/>
  <dc:title>Slide 1</dc:title>
</cp:coreProperties>
</file>